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7AB-E646-4DC3-8291-69DE397E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CF5-EFB9-47E8-A7E7-875E6757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9AB-129B-43F9-9B3A-EBB7FF1A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4F7-2F72-4398-9DBB-960F470F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7CF4-BABE-4E30-8D3E-05AF2526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0B6-F148-4AE1-A9E3-8D07953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C804-A3C5-432F-8181-4FF3049F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294-5BCE-4ECF-AF28-91B8948D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AD9-5392-4DF9-96EB-7ED783B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B5AD-9662-43E6-BD22-5BB32280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82D2-F873-4CF0-B117-3F8BB8D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992-5D48-4FFA-9620-CAD5922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9A5-2CBE-4DF5-B3E1-01270B35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A39D-D57F-4EBD-8F94-1CE1897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9C4-6C97-451E-BE01-831C3282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F70C-0DE5-4F3A-B94C-F71D1742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133-CD00-4418-85DA-F15FE3F5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071-E01E-4282-9A14-5396B0EF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EF0-C122-40B5-BB11-4E8F7A2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692-B9EF-4AE0-8B66-443B49E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42A-627C-427F-A2DD-DE6E0E4F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809-FE8E-4253-B82C-1DD425D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186-7D77-4008-9900-8600464C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28A-D9E3-4E75-9D46-580FD78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AF60-6888-4B20-8314-5F5C407CA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1D6-47CD-4483-BA2A-344E677F0EE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¿</a:t>
            </a: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Qué nos dice el pasado sobre el futuro?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Times New Roman"/>
              </a:rPr>
              <a:t>¿Qué variables limitan o mantienen la continuación de una tendencia?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Times New Roman"/>
              </a:rPr>
              <a:t>Paso 7 – Crear una presentación y una publicación o un </a:t>
            </a:r>
            <a:r>
              <a:rPr b="0" i="1" lang="es-ES" sz="4000" spc="-1" strike="noStrike">
                <a:solidFill>
                  <a:srgbClr val="ffcc66"/>
                </a:solidFill>
                <a:latin typeface="Times New Roman"/>
              </a:rPr>
              <a:t>wik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Incluir los siguientes elementos: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Los datos de la investigación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Análisis matemático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Gráfico de Excel histórico </a:t>
            </a: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vrs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ínea de regresión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Discusión de las futuras implicaciones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Fotos / gráficos / sonidos que mejoran el contenido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Seleccione los recursos de Internet para obtener más información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Cite fuent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Autoevaluar con la lista de cotejo y la matriz de valor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4" descr="j0287005"/>
          <p:cNvPicPr/>
          <p:nvPr/>
        </p:nvPicPr>
        <p:blipFill>
          <a:blip r:embed="rId1"/>
          <a:stretch/>
        </p:blipFill>
        <p:spPr>
          <a:xfrm>
            <a:off x="7315200" y="99072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Times New Roman"/>
              </a:rPr>
              <a:t>Paso 8 – Presentación de las diapositivas a la clas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Documentos electrónicos deben entregarlos a más tardar el viernes 19 de marz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Usted y su compañero se presentan a toda la clase el martes 23 de marz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La presentación no puede ser más de 5 minut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" name="Group 228"/>
          <p:cNvGrpSpPr/>
          <p:nvPr/>
        </p:nvGrpSpPr>
        <p:grpSpPr>
          <a:xfrm>
            <a:off x="5943600" y="4267080"/>
            <a:ext cx="2684160" cy="2363760"/>
            <a:chOff x="5943600" y="4267080"/>
            <a:chExt cx="2684160" cy="2363760"/>
          </a:xfrm>
        </p:grpSpPr>
        <p:sp>
          <p:nvSpPr>
            <p:cNvPr id="125" name="Freeform 109"/>
            <p:cNvSpPr/>
            <p:nvPr/>
          </p:nvSpPr>
          <p:spPr>
            <a:xfrm>
              <a:off x="5943600" y="4267080"/>
              <a:ext cx="2629080" cy="2363760"/>
            </a:xfrm>
            <a:prstGeom prst="pie">
              <a:avLst/>
            </a:prstGeom>
            <a:solidFill>
              <a:srgbClr val="7087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Freeform 110"/>
            <p:cNvSpPr/>
            <p:nvPr/>
          </p:nvSpPr>
          <p:spPr>
            <a:xfrm>
              <a:off x="6124680" y="4622760"/>
              <a:ext cx="1458720" cy="1827360"/>
            </a:xfrm>
            <a:prstGeom prst="pie">
              <a:avLst/>
            </a:pr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Freeform 111"/>
            <p:cNvSpPr/>
            <p:nvPr/>
          </p:nvSpPr>
          <p:spPr>
            <a:xfrm>
              <a:off x="7853400" y="5802480"/>
              <a:ext cx="438120" cy="568080"/>
            </a:xfrm>
            <a:prstGeom prst="pie">
              <a:avLst/>
            </a:pr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Freeform 112"/>
            <p:cNvSpPr/>
            <p:nvPr/>
          </p:nvSpPr>
          <p:spPr>
            <a:xfrm>
              <a:off x="7927920" y="5781600"/>
              <a:ext cx="231840" cy="569880"/>
            </a:xfrm>
            <a:prstGeom prst="pie">
              <a:avLst/>
            </a:pr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Freeform 113"/>
            <p:cNvSpPr/>
            <p:nvPr/>
          </p:nvSpPr>
          <p:spPr>
            <a:xfrm>
              <a:off x="7515360" y="5184720"/>
              <a:ext cx="136440" cy="246240"/>
            </a:xfrm>
            <a:prstGeom prst="pie">
              <a:avLst/>
            </a:pr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Freeform 114"/>
            <p:cNvSpPr/>
            <p:nvPr/>
          </p:nvSpPr>
          <p:spPr>
            <a:xfrm>
              <a:off x="7456320" y="4643280"/>
              <a:ext cx="819360" cy="1544760"/>
            </a:xfrm>
            <a:prstGeom prst="pie">
              <a:avLst/>
            </a:prstGeom>
            <a:solidFill>
              <a:srgbClr val="a6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Freeform 115"/>
            <p:cNvSpPr/>
            <p:nvPr/>
          </p:nvSpPr>
          <p:spPr>
            <a:xfrm>
              <a:off x="7597800" y="5237280"/>
              <a:ext cx="63360" cy="48960"/>
            </a:xfrm>
            <a:prstGeom prst="pie">
              <a:avLst/>
            </a:pr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Freeform 116"/>
            <p:cNvSpPr/>
            <p:nvPr/>
          </p:nvSpPr>
          <p:spPr>
            <a:xfrm>
              <a:off x="8204040" y="5767560"/>
              <a:ext cx="49320" cy="45720"/>
            </a:xfrm>
            <a:prstGeom prst="pie">
              <a:avLst/>
            </a:pr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Freeform 117"/>
            <p:cNvSpPr/>
            <p:nvPr/>
          </p:nvSpPr>
          <p:spPr>
            <a:xfrm>
              <a:off x="6926400" y="6354720"/>
              <a:ext cx="1361880" cy="147600"/>
            </a:xfrm>
            <a:prstGeom prst="pie">
              <a:avLst/>
            </a:pr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Freeform 118"/>
            <p:cNvSpPr/>
            <p:nvPr/>
          </p:nvSpPr>
          <p:spPr>
            <a:xfrm>
              <a:off x="6959520" y="5857920"/>
              <a:ext cx="112680" cy="218880"/>
            </a:xfrm>
            <a:prstGeom prst="pie">
              <a:avLst/>
            </a:pr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Freeform 119"/>
            <p:cNvSpPr/>
            <p:nvPr/>
          </p:nvSpPr>
          <p:spPr>
            <a:xfrm>
              <a:off x="7653240" y="5272200"/>
              <a:ext cx="563760" cy="507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Freeform 120"/>
            <p:cNvSpPr/>
            <p:nvPr/>
          </p:nvSpPr>
          <p:spPr>
            <a:xfrm>
              <a:off x="7485120" y="5459400"/>
              <a:ext cx="412560" cy="893880"/>
            </a:xfrm>
            <a:prstGeom prst="pie">
              <a:avLst/>
            </a:prstGeom>
            <a:solidFill>
              <a:srgbClr val="dee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Freeform 121"/>
            <p:cNvSpPr/>
            <p:nvPr/>
          </p:nvSpPr>
          <p:spPr>
            <a:xfrm>
              <a:off x="7024680" y="6203880"/>
              <a:ext cx="433440" cy="31140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Freeform 122"/>
            <p:cNvSpPr/>
            <p:nvPr/>
          </p:nvSpPr>
          <p:spPr>
            <a:xfrm>
              <a:off x="6981840" y="6265800"/>
              <a:ext cx="312840" cy="2494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Freeform 123"/>
            <p:cNvSpPr/>
            <p:nvPr/>
          </p:nvSpPr>
          <p:spPr>
            <a:xfrm>
              <a:off x="6521400" y="6049800"/>
              <a:ext cx="692280" cy="443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Freeform 124"/>
            <p:cNvSpPr/>
            <p:nvPr/>
          </p:nvSpPr>
          <p:spPr>
            <a:xfrm>
              <a:off x="6629400" y="6141960"/>
              <a:ext cx="301680" cy="3492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Freeform 125"/>
            <p:cNvSpPr/>
            <p:nvPr/>
          </p:nvSpPr>
          <p:spPr>
            <a:xfrm>
              <a:off x="6207120" y="5908680"/>
              <a:ext cx="679320" cy="5666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Freeform 126"/>
            <p:cNvSpPr/>
            <p:nvPr/>
          </p:nvSpPr>
          <p:spPr>
            <a:xfrm>
              <a:off x="6386400" y="4676760"/>
              <a:ext cx="1116000" cy="82872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Freeform 127"/>
            <p:cNvSpPr/>
            <p:nvPr/>
          </p:nvSpPr>
          <p:spPr>
            <a:xfrm>
              <a:off x="7469280" y="5442120"/>
              <a:ext cx="38736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Freeform 128"/>
            <p:cNvSpPr/>
            <p:nvPr/>
          </p:nvSpPr>
          <p:spPr>
            <a:xfrm>
              <a:off x="7846920" y="5452920"/>
              <a:ext cx="61920" cy="23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Freeform 129"/>
            <p:cNvSpPr/>
            <p:nvPr/>
          </p:nvSpPr>
          <p:spPr>
            <a:xfrm>
              <a:off x="7858080" y="5686560"/>
              <a:ext cx="28800" cy="66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Freeform 130"/>
            <p:cNvSpPr/>
            <p:nvPr/>
          </p:nvSpPr>
          <p:spPr>
            <a:xfrm>
              <a:off x="7140600" y="6194520"/>
              <a:ext cx="355680" cy="33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6540480" y="5688000"/>
              <a:ext cx="111240" cy="222120"/>
            </a:xfrm>
            <a:prstGeom prst="pie">
              <a:avLst/>
            </a:pr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6556320" y="5646600"/>
              <a:ext cx="112680" cy="26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6526080" y="5648400"/>
              <a:ext cx="6840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7554960" y="5500800"/>
              <a:ext cx="252360" cy="85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7954920" y="5294160"/>
              <a:ext cx="49320" cy="96840"/>
            </a:xfrm>
            <a:prstGeom prst="pie">
              <a:avLst/>
            </a:pr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7870680" y="5681520"/>
              <a:ext cx="266760" cy="67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37"/>
            <p:cNvSpPr/>
            <p:nvPr/>
          </p:nvSpPr>
          <p:spPr>
            <a:xfrm>
              <a:off x="7969320" y="5278320"/>
              <a:ext cx="3960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Freeform 138"/>
            <p:cNvSpPr/>
            <p:nvPr/>
          </p:nvSpPr>
          <p:spPr>
            <a:xfrm>
              <a:off x="7943760" y="5283360"/>
              <a:ext cx="3168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Freeform 139"/>
            <p:cNvSpPr/>
            <p:nvPr/>
          </p:nvSpPr>
          <p:spPr>
            <a:xfrm>
              <a:off x="7470720" y="5445000"/>
              <a:ext cx="119160" cy="23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0"/>
            <p:cNvSpPr/>
            <p:nvPr/>
          </p:nvSpPr>
          <p:spPr>
            <a:xfrm>
              <a:off x="7873920" y="5683320"/>
              <a:ext cx="3348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Freeform 141"/>
            <p:cNvSpPr/>
            <p:nvPr/>
          </p:nvSpPr>
          <p:spPr>
            <a:xfrm>
              <a:off x="7799400" y="5505480"/>
              <a:ext cx="84240" cy="20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Freeform 142"/>
            <p:cNvSpPr/>
            <p:nvPr/>
          </p:nvSpPr>
          <p:spPr>
            <a:xfrm>
              <a:off x="7450200" y="6345360"/>
              <a:ext cx="7858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Freeform 143"/>
            <p:cNvSpPr/>
            <p:nvPr/>
          </p:nvSpPr>
          <p:spPr>
            <a:xfrm>
              <a:off x="6192720" y="5891040"/>
              <a:ext cx="33984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Freeform 144"/>
            <p:cNvSpPr/>
            <p:nvPr/>
          </p:nvSpPr>
          <p:spPr>
            <a:xfrm>
              <a:off x="7886880" y="5438880"/>
              <a:ext cx="3780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Freeform 145"/>
            <p:cNvSpPr/>
            <p:nvPr/>
          </p:nvSpPr>
          <p:spPr>
            <a:xfrm>
              <a:off x="8037360" y="5526000"/>
              <a:ext cx="25560" cy="24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Freeform 146"/>
            <p:cNvSpPr/>
            <p:nvPr/>
          </p:nvSpPr>
          <p:spPr>
            <a:xfrm>
              <a:off x="6146640" y="6018120"/>
              <a:ext cx="401760" cy="4572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Freeform 147"/>
            <p:cNvSpPr/>
            <p:nvPr/>
          </p:nvSpPr>
          <p:spPr>
            <a:xfrm>
              <a:off x="6518160" y="5894280"/>
              <a:ext cx="390600" cy="58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Freeform 148"/>
            <p:cNvSpPr/>
            <p:nvPr/>
          </p:nvSpPr>
          <p:spPr>
            <a:xfrm>
              <a:off x="6807240" y="6043680"/>
              <a:ext cx="358560" cy="37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149"/>
            <p:cNvSpPr/>
            <p:nvPr/>
          </p:nvSpPr>
          <p:spPr>
            <a:xfrm>
              <a:off x="7974000" y="5388120"/>
              <a:ext cx="246240" cy="38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150"/>
            <p:cNvSpPr/>
            <p:nvPr/>
          </p:nvSpPr>
          <p:spPr>
            <a:xfrm>
              <a:off x="8051760" y="5548320"/>
              <a:ext cx="155520" cy="24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151"/>
            <p:cNvSpPr/>
            <p:nvPr/>
          </p:nvSpPr>
          <p:spPr>
            <a:xfrm>
              <a:off x="6943680" y="5818320"/>
              <a:ext cx="716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Freeform 152"/>
            <p:cNvSpPr/>
            <p:nvPr/>
          </p:nvSpPr>
          <p:spPr>
            <a:xfrm>
              <a:off x="7261200" y="6000840"/>
              <a:ext cx="109440" cy="220680"/>
            </a:xfrm>
            <a:prstGeom prst="pie">
              <a:avLst/>
            </a:prstGeom>
            <a:solidFill>
              <a:srgbClr val="ffe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Freeform 153"/>
            <p:cNvSpPr/>
            <p:nvPr/>
          </p:nvSpPr>
          <p:spPr>
            <a:xfrm>
              <a:off x="7278840" y="5959440"/>
              <a:ext cx="110880" cy="26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Freeform 154"/>
            <p:cNvSpPr/>
            <p:nvPr/>
          </p:nvSpPr>
          <p:spPr>
            <a:xfrm>
              <a:off x="7248600" y="5961240"/>
              <a:ext cx="6336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Freeform 155"/>
            <p:cNvSpPr/>
            <p:nvPr/>
          </p:nvSpPr>
          <p:spPr>
            <a:xfrm>
              <a:off x="6640560" y="6178680"/>
              <a:ext cx="88920" cy="29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Freeform 156"/>
            <p:cNvSpPr/>
            <p:nvPr/>
          </p:nvSpPr>
          <p:spPr>
            <a:xfrm>
              <a:off x="6618240" y="6203880"/>
              <a:ext cx="4284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Freeform 157"/>
            <p:cNvSpPr/>
            <p:nvPr/>
          </p:nvSpPr>
          <p:spPr>
            <a:xfrm>
              <a:off x="6350040" y="4645080"/>
              <a:ext cx="1155600" cy="84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Freeform 158"/>
            <p:cNvSpPr/>
            <p:nvPr/>
          </p:nvSpPr>
          <p:spPr>
            <a:xfrm>
              <a:off x="6426360" y="4778280"/>
              <a:ext cx="1014120" cy="49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Freeform 159"/>
            <p:cNvSpPr/>
            <p:nvPr/>
          </p:nvSpPr>
          <p:spPr>
            <a:xfrm>
              <a:off x="6426360" y="4881600"/>
              <a:ext cx="1014120" cy="493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Freeform 160"/>
            <p:cNvSpPr/>
            <p:nvPr/>
          </p:nvSpPr>
          <p:spPr>
            <a:xfrm>
              <a:off x="6426360" y="4984920"/>
              <a:ext cx="1014120" cy="489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Freeform 161"/>
            <p:cNvSpPr/>
            <p:nvPr/>
          </p:nvSpPr>
          <p:spPr>
            <a:xfrm>
              <a:off x="6426360" y="5110200"/>
              <a:ext cx="1012680" cy="237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62"/>
            <p:cNvSpPr/>
            <p:nvPr/>
          </p:nvSpPr>
          <p:spPr>
            <a:xfrm>
              <a:off x="7172280" y="4748040"/>
              <a:ext cx="12600" cy="62100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63"/>
            <p:cNvSpPr/>
            <p:nvPr/>
          </p:nvSpPr>
          <p:spPr>
            <a:xfrm>
              <a:off x="7068960" y="4748040"/>
              <a:ext cx="14400" cy="62100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64"/>
            <p:cNvSpPr/>
            <p:nvPr/>
          </p:nvSpPr>
          <p:spPr>
            <a:xfrm>
              <a:off x="6951600" y="4749840"/>
              <a:ext cx="23760" cy="6159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65"/>
            <p:cNvSpPr/>
            <p:nvPr/>
          </p:nvSpPr>
          <p:spPr>
            <a:xfrm>
              <a:off x="6843600" y="4754520"/>
              <a:ext cx="11160" cy="6112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66"/>
            <p:cNvSpPr/>
            <p:nvPr/>
          </p:nvSpPr>
          <p:spPr>
            <a:xfrm flipH="1">
              <a:off x="6447600" y="4799160"/>
              <a:ext cx="846360" cy="433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67"/>
            <p:cNvSpPr/>
            <p:nvPr/>
          </p:nvSpPr>
          <p:spPr>
            <a:xfrm>
              <a:off x="6432480" y="5230800"/>
              <a:ext cx="1008000" cy="1116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8"/>
            <p:cNvSpPr/>
            <p:nvPr/>
          </p:nvSpPr>
          <p:spPr>
            <a:xfrm>
              <a:off x="7286760" y="4741920"/>
              <a:ext cx="14040" cy="61920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69"/>
            <p:cNvSpPr/>
            <p:nvPr/>
          </p:nvSpPr>
          <p:spPr>
            <a:xfrm>
              <a:off x="6973920" y="6283440"/>
              <a:ext cx="19836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Freeform 170"/>
            <p:cNvSpPr/>
            <p:nvPr/>
          </p:nvSpPr>
          <p:spPr>
            <a:xfrm>
              <a:off x="6149880" y="6005520"/>
              <a:ext cx="40320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171"/>
            <p:cNvSpPr/>
            <p:nvPr/>
          </p:nvSpPr>
          <p:spPr>
            <a:xfrm>
              <a:off x="7059600" y="6402240"/>
              <a:ext cx="2048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172"/>
            <p:cNvSpPr/>
            <p:nvPr/>
          </p:nvSpPr>
          <p:spPr>
            <a:xfrm>
              <a:off x="7088040" y="6462720"/>
              <a:ext cx="14472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Freeform 173"/>
            <p:cNvSpPr/>
            <p:nvPr/>
          </p:nvSpPr>
          <p:spPr>
            <a:xfrm>
              <a:off x="6894360" y="5808600"/>
              <a:ext cx="22392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174"/>
            <p:cNvSpPr/>
            <p:nvPr/>
          </p:nvSpPr>
          <p:spPr>
            <a:xfrm>
              <a:off x="6989760" y="5994360"/>
              <a:ext cx="4284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175"/>
            <p:cNvSpPr/>
            <p:nvPr/>
          </p:nvSpPr>
          <p:spPr>
            <a:xfrm>
              <a:off x="7094520" y="6267600"/>
              <a:ext cx="206280" cy="25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176"/>
            <p:cNvSpPr/>
            <p:nvPr/>
          </p:nvSpPr>
          <p:spPr>
            <a:xfrm>
              <a:off x="6788160" y="6149880"/>
              <a:ext cx="15732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177"/>
            <p:cNvSpPr/>
            <p:nvPr/>
          </p:nvSpPr>
          <p:spPr>
            <a:xfrm>
              <a:off x="7643880" y="5254560"/>
              <a:ext cx="3142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178"/>
            <p:cNvSpPr/>
            <p:nvPr/>
          </p:nvSpPr>
          <p:spPr>
            <a:xfrm>
              <a:off x="7931160" y="5397480"/>
              <a:ext cx="36360" cy="2318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179"/>
            <p:cNvSpPr/>
            <p:nvPr/>
          </p:nvSpPr>
          <p:spPr>
            <a:xfrm>
              <a:off x="7589880" y="5230800"/>
              <a:ext cx="7308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180"/>
            <p:cNvSpPr/>
            <p:nvPr/>
          </p:nvSpPr>
          <p:spPr>
            <a:xfrm>
              <a:off x="7300800" y="4952880"/>
              <a:ext cx="30816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181"/>
            <p:cNvSpPr/>
            <p:nvPr/>
          </p:nvSpPr>
          <p:spPr>
            <a:xfrm>
              <a:off x="7650000" y="5326200"/>
              <a:ext cx="90720" cy="46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182"/>
            <p:cNvSpPr/>
            <p:nvPr/>
          </p:nvSpPr>
          <p:spPr>
            <a:xfrm>
              <a:off x="7581960" y="5338800"/>
              <a:ext cx="8424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183"/>
            <p:cNvSpPr/>
            <p:nvPr/>
          </p:nvSpPr>
          <p:spPr>
            <a:xfrm>
              <a:off x="7639200" y="5319720"/>
              <a:ext cx="10476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Freeform 184"/>
            <p:cNvSpPr/>
            <p:nvPr/>
          </p:nvSpPr>
          <p:spPr>
            <a:xfrm>
              <a:off x="7643880" y="5281560"/>
              <a:ext cx="396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Freeform 185"/>
            <p:cNvSpPr/>
            <p:nvPr/>
          </p:nvSpPr>
          <p:spPr>
            <a:xfrm>
              <a:off x="7721640" y="5370480"/>
              <a:ext cx="17136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Freeform 186"/>
            <p:cNvSpPr/>
            <p:nvPr/>
          </p:nvSpPr>
          <p:spPr>
            <a:xfrm>
              <a:off x="8201160" y="5761080"/>
              <a:ext cx="554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Freeform 187"/>
            <p:cNvSpPr/>
            <p:nvPr/>
          </p:nvSpPr>
          <p:spPr>
            <a:xfrm>
              <a:off x="6756480" y="6343560"/>
              <a:ext cx="3024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4" name="Group 227"/>
            <p:cNvGrpSpPr/>
            <p:nvPr/>
          </p:nvGrpSpPr>
          <p:grpSpPr>
            <a:xfrm>
              <a:off x="7971120" y="5315760"/>
              <a:ext cx="656640" cy="1110960"/>
              <a:chOff x="7971120" y="5315760"/>
              <a:chExt cx="656640" cy="1110960"/>
            </a:xfrm>
          </p:grpSpPr>
          <p:sp>
            <p:nvSpPr>
              <p:cNvPr id="205" name="Freeform 206"/>
              <p:cNvSpPr/>
              <p:nvPr/>
            </p:nvSpPr>
            <p:spPr>
              <a:xfrm flipH="1" rot="653400">
                <a:off x="8096040" y="5347440"/>
                <a:ext cx="436680" cy="104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Freeform 207"/>
              <p:cNvSpPr/>
              <p:nvPr/>
            </p:nvSpPr>
            <p:spPr>
              <a:xfrm flipH="1" rot="653400">
                <a:off x="8290440" y="5352480"/>
                <a:ext cx="124200" cy="234000"/>
              </a:xfrm>
              <a:prstGeom prst="pie">
                <a:avLst/>
              </a:prstGeom>
              <a:solidFill>
                <a:srgbClr val="7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Freeform 208"/>
              <p:cNvSpPr/>
              <p:nvPr/>
            </p:nvSpPr>
            <p:spPr>
              <a:xfrm flipH="1" rot="653400">
                <a:off x="8300520" y="5393520"/>
                <a:ext cx="64800" cy="243360"/>
              </a:xfrm>
              <a:prstGeom prst="pie">
                <a:avLst/>
              </a:pr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Freeform 209"/>
              <p:cNvSpPr/>
              <p:nvPr/>
            </p:nvSpPr>
            <p:spPr>
              <a:xfrm flipH="1" rot="653400">
                <a:off x="8325720" y="5487840"/>
                <a:ext cx="154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Freeform 210"/>
              <p:cNvSpPr/>
              <p:nvPr/>
            </p:nvSpPr>
            <p:spPr>
              <a:xfrm flipH="1" rot="653400">
                <a:off x="8181720" y="5549040"/>
                <a:ext cx="295560" cy="329760"/>
              </a:xfrm>
              <a:prstGeom prst="pie">
                <a:avLst/>
              </a:pr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Freeform 211"/>
              <p:cNvSpPr/>
              <p:nvPr/>
            </p:nvSpPr>
            <p:spPr>
              <a:xfrm flipH="1" rot="653400">
                <a:off x="8287920" y="5731560"/>
                <a:ext cx="3672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Freeform 212"/>
              <p:cNvSpPr/>
              <p:nvPr/>
            </p:nvSpPr>
            <p:spPr>
              <a:xfrm flipH="1" rot="653400">
                <a:off x="8117640" y="5748480"/>
                <a:ext cx="47520" cy="43560"/>
              </a:xfrm>
              <a:prstGeom prst="pie">
                <a:avLst/>
              </a:pr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Freeform 213"/>
              <p:cNvSpPr/>
              <p:nvPr/>
            </p:nvSpPr>
            <p:spPr>
              <a:xfrm flipH="1" rot="653400">
                <a:off x="8287560" y="5809320"/>
                <a:ext cx="44640" cy="68040"/>
              </a:xfrm>
              <a:prstGeom prst="pie">
                <a:avLst/>
              </a:prstGeom>
              <a:solidFill>
                <a:srgbClr val="7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Freeform 214"/>
              <p:cNvSpPr/>
              <p:nvPr/>
            </p:nvSpPr>
            <p:spPr>
              <a:xfrm flipH="1" rot="653400">
                <a:off x="8259840" y="5812920"/>
                <a:ext cx="30240" cy="79560"/>
              </a:xfrm>
              <a:prstGeom prst="pie">
                <a:avLst/>
              </a:prstGeom>
              <a:solidFill>
                <a:srgbClr val="f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Freeform 215"/>
              <p:cNvSpPr/>
              <p:nvPr/>
            </p:nvSpPr>
            <p:spPr>
              <a:xfrm flipH="1" rot="653400">
                <a:off x="8240760" y="5825160"/>
                <a:ext cx="24480" cy="60840"/>
              </a:xfrm>
              <a:prstGeom prst="pie">
                <a:avLst/>
              </a:prstGeom>
              <a:solidFill>
                <a:srgbClr val="7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Freeform 216"/>
              <p:cNvSpPr/>
              <p:nvPr/>
            </p:nvSpPr>
            <p:spPr>
              <a:xfrm flipH="1" rot="653400">
                <a:off x="8218080" y="5882400"/>
                <a:ext cx="206640" cy="306000"/>
              </a:xfrm>
              <a:prstGeom prst="pie">
                <a:avLst/>
              </a:prstGeom>
              <a:solidFill>
                <a:srgbClr val="00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Freeform 217"/>
              <p:cNvSpPr/>
              <p:nvPr/>
            </p:nvSpPr>
            <p:spPr>
              <a:xfrm flipH="1" rot="653400">
                <a:off x="8409600" y="5909400"/>
                <a:ext cx="24480" cy="56880"/>
              </a:xfrm>
              <a:prstGeom prst="pie">
                <a:avLst/>
              </a:pr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Freeform 218"/>
              <p:cNvSpPr/>
              <p:nvPr/>
            </p:nvSpPr>
            <p:spPr>
              <a:xfrm flipH="1" rot="653400">
                <a:off x="8350560" y="6168960"/>
                <a:ext cx="100080" cy="225720"/>
              </a:xfrm>
              <a:prstGeom prst="pie">
                <a:avLst/>
              </a:pr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Freeform 219"/>
              <p:cNvSpPr/>
              <p:nvPr/>
            </p:nvSpPr>
            <p:spPr>
              <a:xfrm flipH="1" rot="653400">
                <a:off x="8208000" y="6186240"/>
                <a:ext cx="33840" cy="189720"/>
              </a:xfrm>
              <a:prstGeom prst="pie">
                <a:avLst/>
              </a:prstGeom>
              <a:solidFill>
                <a:srgbClr val="edb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Freeform 220"/>
              <p:cNvSpPr/>
              <p:nvPr/>
            </p:nvSpPr>
            <p:spPr>
              <a:xfrm flipH="1" rot="653400">
                <a:off x="8210880" y="6345360"/>
                <a:ext cx="5400" cy="306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Freeform 221"/>
              <p:cNvSpPr/>
              <p:nvPr/>
            </p:nvSpPr>
            <p:spPr>
              <a:xfrm flipH="1" rot="653400">
                <a:off x="8418240" y="6405120"/>
                <a:ext cx="9720" cy="122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Freeform 222"/>
              <p:cNvSpPr/>
              <p:nvPr/>
            </p:nvSpPr>
            <p:spPr>
              <a:xfrm flipH="1" rot="653400">
                <a:off x="8181720" y="6362280"/>
                <a:ext cx="10800" cy="108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Freeform 223"/>
              <p:cNvSpPr/>
              <p:nvPr/>
            </p:nvSpPr>
            <p:spPr>
              <a:xfrm flipH="1" rot="653400">
                <a:off x="7983000" y="5627880"/>
                <a:ext cx="182520" cy="14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Freeform 224"/>
              <p:cNvSpPr/>
              <p:nvPr/>
            </p:nvSpPr>
            <p:spPr>
              <a:xfrm flipH="1" rot="653400">
                <a:off x="8011800" y="5646600"/>
                <a:ext cx="123120" cy="95400"/>
              </a:xfrm>
              <a:prstGeom prst="pie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Freeform 225"/>
              <p:cNvSpPr/>
              <p:nvPr/>
            </p:nvSpPr>
            <p:spPr>
              <a:xfrm flipH="1" rot="653400">
                <a:off x="8129880" y="5752440"/>
                <a:ext cx="22680" cy="284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Proyecto predecir el futur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Usted va a tomar sobre el papel de los estadísticos para recopilar y analizar la información estadística acerca de un tema en el tiemp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Utilice el pasado para predecir el futu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Integre matemática, estadística y tecnologí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Picture 6" descr="bd07021_"/>
          <p:cNvPicPr/>
          <p:nvPr/>
        </p:nvPicPr>
        <p:blipFill>
          <a:blip r:embed="rId1"/>
          <a:stretch/>
        </p:blipFill>
        <p:spPr>
          <a:xfrm>
            <a:off x="6151680" y="5257800"/>
            <a:ext cx="1197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aso </a:t>
            </a:r>
            <a:r>
              <a:rPr b="0" lang="es-ES" sz="3600" spc="-1" strike="noStrike">
                <a:solidFill>
                  <a:srgbClr val="ffcc66"/>
                </a:solidFill>
                <a:latin typeface="Times New Roman"/>
              </a:rPr>
              <a:t>1 – Revisar las expectativas del proyec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Usted deberá crear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na presentación de diapositivas acerca de las posibles implicaciones de las tendencias, utilizando las herramientas matemáticas de análisis estadístico 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Ya sea 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n breve boletín con artículos y gráficos acerca de los posibles efectos e implicaciones de la tendencia 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O 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n </a:t>
            </a:r>
            <a:r>
              <a:rPr b="0" i="1" lang="es-ES" sz="2400" spc="-1" strike="noStrike">
                <a:solidFill>
                  <a:srgbClr val="eaeaea"/>
                </a:solidFill>
                <a:latin typeface="Times New Roman"/>
              </a:rPr>
              <a:t>wiki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sobre el tema, incluidas las repercusiones y los efectos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Revise la matriz de valoración del proyecto y la autoevaluación de su trabajo según se vaya desarrollan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Reuniones para revisar el progre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Picture 14" descr="j0233251"/>
          <p:cNvPicPr/>
          <p:nvPr/>
        </p:nvPicPr>
        <p:blipFill>
          <a:blip r:embed="rId1"/>
          <a:stretch/>
        </p:blipFill>
        <p:spPr>
          <a:xfrm>
            <a:off x="7848720" y="5573880"/>
            <a:ext cx="12952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o 2 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– Escoja un tem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Seleccione un tema que le interese a usted y a su compañe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Ejemplos: tasas de cáncer, cambios de población, los sueldos de béisb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Picture 4" descr="bd06739_"/>
          <p:cNvPicPr/>
          <p:nvPr/>
        </p:nvPicPr>
        <p:blipFill>
          <a:blip r:embed="rId1"/>
          <a:stretch/>
        </p:blipFill>
        <p:spPr>
          <a:xfrm>
            <a:off x="6172200" y="3809880"/>
            <a:ext cx="2208240" cy="2433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295280" y="3962520"/>
            <a:ext cx="487692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Venga con tres posibles temas y vamos a elegir uno, para que no haya repetición con otros grup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o 3 – 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Investigue su mate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Use Internet y la biblioteca para la investig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Necesita datos de al menos 5 años, por separado años/períodos de tiemp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1028" descr="bd06496_"/>
          <p:cNvPicPr/>
          <p:nvPr/>
        </p:nvPicPr>
        <p:blipFill>
          <a:blip r:embed="rId1"/>
          <a:stretch/>
        </p:blipFill>
        <p:spPr>
          <a:xfrm>
            <a:off x="6095880" y="4151160"/>
            <a:ext cx="25750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aso </a:t>
            </a:r>
            <a:r>
              <a:rPr b="0" lang="es-ES" sz="4000" spc="-1" strike="noStrike">
                <a:solidFill>
                  <a:srgbClr val="ffcc66"/>
                </a:solidFill>
                <a:latin typeface="Times New Roman"/>
              </a:rPr>
              <a:t>4 – Aplique matemáticas para obtener dat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Use calculadoras gráficas, 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Busque la ecuación de la curva de mejor ajuste (regresión exponencial) </a:t>
            </a:r>
            <a:br>
              <a:rPr sz="2400"/>
            </a:b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- Busque el coeficiente de correl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4960" indent="-5349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Use la ecuación, haga la predicción del futuro por lo menos cinco años/períodos de tiemp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5" descr="graphcalc"/>
          <p:cNvPicPr/>
          <p:nvPr/>
        </p:nvPicPr>
        <p:blipFill>
          <a:blip r:embed="rId1"/>
          <a:srcRect l="9465" t="1512" r="5383" b="6062"/>
          <a:stretch/>
        </p:blipFill>
        <p:spPr>
          <a:xfrm>
            <a:off x="6781680" y="1600200"/>
            <a:ext cx="1690920" cy="4316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6781680" y="1657440"/>
            <a:ext cx="1689120" cy="4190760"/>
          </a:xfrm>
          <a:prstGeom prst="rect">
            <a:avLst/>
          </a:prstGeom>
          <a:noFill/>
          <a:ln cap="sq" w="1778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757920" y="5705640"/>
            <a:ext cx="189000" cy="21096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907320" y="5691240"/>
            <a:ext cx="1565280" cy="21096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8346960" y="1600200"/>
            <a:ext cx="187560" cy="1411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o 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5 – Implicaciones futur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Ahora que ya han hecho las predicciones del futuro predicciones usando su ecuación, haga una lluvia de ideas con las posibles implicaciones.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¿Cómo una tendencia afecta las pociones de las personas?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¿Cuál será nuestra calidad de vida en el futuro?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ocial </a:t>
            </a:r>
            <a:br>
              <a:rPr sz="1800"/>
            </a:b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  Ambiental </a:t>
            </a:r>
            <a:br>
              <a:rPr sz="1800"/>
            </a:b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  Económico </a:t>
            </a:r>
            <a:br>
              <a:rPr sz="1800"/>
            </a:b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  Político </a:t>
            </a:r>
            <a:br>
              <a:rPr sz="1800"/>
            </a:b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  Médi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bd06663_"/>
          <p:cNvPicPr/>
          <p:nvPr/>
        </p:nvPicPr>
        <p:blipFill>
          <a:blip r:embed="rId1"/>
          <a:stretch/>
        </p:blipFill>
        <p:spPr>
          <a:xfrm>
            <a:off x="5257800" y="3657600"/>
            <a:ext cx="3429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Pasos 1 – 5 deben estar satisfactoriamente concluidos antes que usted inicie con la computadora</a:t>
            </a:r>
            <a:br>
              <a:rPr sz="4400"/>
            </a:b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l lunes 15 de marz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icture 6" descr="sy00170_"/>
          <p:cNvPicPr/>
          <p:nvPr/>
        </p:nvPicPr>
        <p:blipFill>
          <a:blip r:embed="rId1"/>
          <a:stretch/>
        </p:blipFill>
        <p:spPr>
          <a:xfrm>
            <a:off x="3124080" y="5105520"/>
            <a:ext cx="2590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o 6 – 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Grafique sus da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Haga una hoja de cálculo con tres columna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olumna 1 = Año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olumna 2 = Datos históric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olumna 3 = Datos si usa fórmula (se adecua mejo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ree un gráfico de XY de dispersión en la hoja de cálcul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Datos históricos (punto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Fórmulas para cálculos (línea de regresió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21:48:52Z</dcterms:created>
  <dc:creator>Pittsburg High School</dc:creator>
  <dc:description/>
  <dc:language>en-US</dc:language>
  <cp:lastModifiedBy>Jacqueline Arroyo</cp:lastModifiedBy>
  <dcterms:modified xsi:type="dcterms:W3CDTF">2008-08-05T18:30:17Z</dcterms:modified>
  <cp:revision>30</cp:revision>
  <dc:subject/>
  <dc:title>Future Shock Project</dc:title>
</cp:coreProperties>
</file>